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73A0-E125-4268-AE6B-CABC80684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D9E6-E1ED-4839-BDC1-A28224AC0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256F-FD61-4C01-A069-E12468FCB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7E8A-CF1D-4A89-A831-D98F737A0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4FEE-C1C4-446B-9ACA-26D34B9E6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20C5-28A6-46EF-9E1A-FB49CB457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74E8-8F63-4565-8BA2-A526343A6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B7F47-9D80-4744-8E8B-5A7F9EA46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CB9E-FCD6-4328-8755-61440BE4C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53AB0-25F9-43D5-88E6-0716A8664D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60D37-4EB4-45A2-ADBF-A00CFDB69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5B5A-128C-40BD-8F43-E8A9302F2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6167-1CDE-4FD6-853F-132F07D69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C107-C45F-428B-BA9B-2F94673BB2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1571-C80A-49F6-A019-7F1F580A8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ABE-632C-40BF-A183-05636EB4F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0C0B-4C66-4956-8FE0-C67EDF670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2B5-2C4C-4E7E-8182-509D20B18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C52F-258E-4A38-B5D4-57BC481C8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4B3-75F2-482F-B091-69CDDF51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963C-BC13-4632-A54F-32EEEDAE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B056-3D67-4B4D-AA61-00AA6702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EBAA-9DB6-4EE5-A3B9-3087C0FA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192D-129C-417E-A904-EDC8C9D5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13F9-DE98-4699-9539-20BE35D5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7384-F564-4DE0-80CD-2C9BE24F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EE33-158C-4458-ACCC-94AA8F7F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9, 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 Hopkins Summer Epi-Biostat Instit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E6C7-4166-41D9-BB6E-B3FCC1DEF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Multi-level Models</a:t>
            </a: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thleen Bennett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57320" y="115920"/>
            <a:ext cx="2341440" cy="885960"/>
            <a:chOff x="157320" y="115920"/>
            <a:chExt cx="2341440" cy="885960"/>
          </a:xfrm>
        </p:grpSpPr>
        <p:pic>
          <p:nvPicPr>
            <p:cNvPr id="50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157320" y="231480"/>
              <a:ext cx="109512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403640" y="115920"/>
              <a:ext cx="1095120" cy="885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7" descr=""/>
          <p:cNvPicPr/>
          <p:nvPr/>
        </p:nvPicPr>
        <p:blipFill>
          <a:blip r:embed="rId3"/>
          <a:stretch/>
        </p:blipFill>
        <p:spPr>
          <a:xfrm>
            <a:off x="6372360" y="109440"/>
            <a:ext cx="244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331D-2F5F-4441-AFCF-B6576A0D4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level” Mod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covariates from many levels and 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correlation among observations from within a level (clu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effect MLMs condition on unobserved “latent variables” to account for the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about the latent variables determine the nature of the within cluster cor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can be borrowed across clusters (levels) to improve individual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C1269-855B-433B-84DD-57E8C9CF0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wo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ies of health services: assessment of quality of care are often obtained from patients that are clustered within hospitals. Patients are level 1 data and hospitals are level 2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developmental toxicity studies: pregnant mice (dams) are assigned to increased doses of a chemical and examined for evidence of malformations (a binary response). Data collected in developmental toxicity studies are clustered. Observations on the fetuses (level 1 units) nested within dams/litters (level 2 da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“level” signifies the position of a unit of observation within the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2BC0B-FF21-4A9A-A054-24F596AC9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three-level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might be obtained in patients nested within clinics, that in turn, are nested within different regions of the cou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 are obtained on children (level 1) nested within classrooms (level 2), nested within schools (level 3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incorporate two kinds of predicto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For the desig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themsel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represent a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With the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Fixed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explain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andom</a:t>
            </a: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 effects organise unexplained var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9170-8DFE-41D1-8CBF-3D8E8585A6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45D4-9753-475E-897A-51482BA7C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gression with Correlated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take account of correla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tain valid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dence interv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efficient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etting: Longitudinal de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Features of Longitudinal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Covarianc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 common feature of repeated measurements of an individual is correlation (model th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Arial"/>
              </a:rPr>
              <a:t>Heterogeneity of var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Another common feature of longitudinal data is heterogeneous var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Plus: unbalanced data, non-equidistant measurements over time, drop-out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68FE3-22FC-460B-94E7-087841B1E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Linear Mixed-Effects Models</a:t>
            </a:r>
            <a:br>
              <a:rPr sz="44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The typical OLS regression model with a temporal dim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0C1DD-1B61-43E2-BB0B-8938BF260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971800" y="3583080"/>
            <a:ext cx="2824200" cy="230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1752480" y="2438280"/>
          <a:ext cx="6096240" cy="1011240"/>
        </p:xfrm>
        <a:graphic>
          <a:graphicData uri="http://schemas.openxmlformats.org/drawingml/2006/table">
            <a:tbl>
              <a:tblPr/>
              <a:tblGrid>
                <a:gridCol w="1828800"/>
                <a:gridCol w="503280"/>
                <a:gridCol w="1325520"/>
                <a:gridCol w="533520"/>
                <a:gridCol w="1905120"/>
              </a:tblGrid>
              <a:tr h="403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(Y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az-Cyrl-A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│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</a:t>
                      </a: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 Time</a:t>
                      </a:r>
                      <a:r>
                        <a:rPr b="0" lang="en-IE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ij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 respon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time 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inter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I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ll observations (data points) are independent = different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peat Measure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bservations (data points) are dependent = same su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B077-E69B-4BE6-A8F0-4AA6FB229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3962520" y="36576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990720" y="3112920"/>
            <a:ext cx="2904840" cy="23734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5029200" y="3112920"/>
            <a:ext cx="2736720" cy="23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Building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800" spc="-1" strike="noStrike">
                <a:solidFill>
                  <a:srgbClr val="000000"/>
                </a:solidFill>
                <a:latin typeface="Arial"/>
              </a:rPr>
              <a:t>Reg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8E67-0F17-400D-879A-0FE8EB7A2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685800" y="2581200"/>
            <a:ext cx="762012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9254-3ECE-4FD4-AF55-640BCDBDF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981080" y="1427040"/>
            <a:ext cx="5205600" cy="4516560"/>
          </a:xfrm>
          <a:prstGeom prst="rect">
            <a:avLst/>
          </a:prstGeom>
          <a:ln w="0">
            <a:noFill/>
          </a:ln>
        </p:spPr>
      </p:pic>
      <p:sp>
        <p:nvSpPr>
          <p:cNvPr id="149" name="TextBox 5"/>
          <p:cNvSpPr/>
          <p:nvPr/>
        </p:nvSpPr>
        <p:spPr>
          <a:xfrm>
            <a:off x="380880" y="3094200"/>
            <a:ext cx="144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ev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ter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var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Straight Arrow Connector 7"/>
          <p:cNvCxnSpPr/>
          <p:nvPr/>
        </p:nvCxnSpPr>
        <p:spPr>
          <a:xfrm>
            <a:off x="914040" y="3705120"/>
            <a:ext cx="1080" cy="94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0070c0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0070c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72bfc5"/>
                </a:solidFill>
                <a:latin typeface="Arial"/>
              </a:rPr>
              <a:t>u</a:t>
            </a:r>
            <a:r>
              <a:rPr b="0" i="1" lang="en-IE" sz="1400" spc="-1" strike="noStrike" baseline="-25000">
                <a:solidFill>
                  <a:srgbClr val="72bfc5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subject specific intercept to the average line intercept – </a:t>
            </a:r>
            <a:r>
              <a:rPr b="1" lang="en-IE" sz="1400" spc="-1" strike="noStrike">
                <a:solidFill>
                  <a:srgbClr val="000000"/>
                </a:solidFill>
                <a:latin typeface="Arial"/>
              </a:rPr>
              <a:t>random intercep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8153280" y="1362240"/>
            <a:ext cx="4572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685800" y="5961240"/>
            <a:ext cx="609480" cy="5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1"/>
          <p:cNvSpPr/>
          <p:nvPr/>
        </p:nvSpPr>
        <p:spPr>
          <a:xfrm>
            <a:off x="876240" y="596412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0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6"/>
          <p:cNvSpPr/>
          <p:nvPr/>
        </p:nvSpPr>
        <p:spPr>
          <a:xfrm>
            <a:off x="8636040" y="337824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7"/>
          <p:cNvSpPr/>
          <p:nvPr/>
        </p:nvSpPr>
        <p:spPr>
          <a:xfrm flipH="1">
            <a:off x="2546280" y="2743200"/>
            <a:ext cx="2036880" cy="14335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19"/>
          <p:cNvSpPr/>
          <p:nvPr/>
        </p:nvSpPr>
        <p:spPr>
          <a:xfrm flipH="1">
            <a:off x="2546280" y="3786120"/>
            <a:ext cx="959040" cy="633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9"/>
          <p:cNvSpPr/>
          <p:nvPr/>
        </p:nvSpPr>
        <p:spPr>
          <a:xfrm flipH="1">
            <a:off x="2546280" y="4267080"/>
            <a:ext cx="1797120" cy="114300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22887"/>
          <p:cNvSpPr/>
          <p:nvPr/>
        </p:nvSpPr>
        <p:spPr>
          <a:xfrm>
            <a:off x="2666880" y="4343400"/>
            <a:ext cx="0" cy="566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40"/>
          <p:cNvSpPr/>
          <p:nvPr/>
        </p:nvSpPr>
        <p:spPr>
          <a:xfrm>
            <a:off x="2819520" y="4005360"/>
            <a:ext cx="0" cy="718920"/>
          </a:xfrm>
          <a:prstGeom prst="line">
            <a:avLst/>
          </a:prstGeom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42"/>
          <p:cNvSpPr/>
          <p:nvPr/>
        </p:nvSpPr>
        <p:spPr>
          <a:xfrm>
            <a:off x="2819520" y="4724280"/>
            <a:ext cx="0" cy="533520"/>
          </a:xfrm>
          <a:prstGeom prst="line">
            <a:avLst/>
          </a:prstGeom>
          <a:ln w="19080">
            <a:solidFill>
              <a:srgbClr val="8ac6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Why Multilevel Modell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In social, medical and biological sciences hierarchical structure is 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Data forming groups or clusters tend not to be indep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Extension of traditional regression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C5C5-FC05-4B2F-84A7-F78627728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8A45-6E0F-46A2-A63B-83510B1A40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4038480" y="838080"/>
            <a:ext cx="457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Distances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1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IE" sz="14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i="1" lang="en-IE" sz="1400" spc="-1" strike="noStrike" baseline="-25000">
                <a:solidFill>
                  <a:srgbClr val="ff0000"/>
                </a:solidFill>
                <a:latin typeface="Arial"/>
              </a:rPr>
              <a:t>3</a:t>
            </a:r>
            <a:r>
              <a:rPr b="0" i="1" lang="en-I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from each observed value to their subject specific lines are the independent res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4"/>
          <p:cNvSpPr/>
          <p:nvPr/>
        </p:nvSpPr>
        <p:spPr>
          <a:xfrm>
            <a:off x="7315200" y="3352680"/>
            <a:ext cx="2362320" cy="4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6"/>
          <p:cNvSpPr/>
          <p:nvPr/>
        </p:nvSpPr>
        <p:spPr>
          <a:xfrm>
            <a:off x="8381880" y="3457440"/>
            <a:ext cx="19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728720" y="1557360"/>
            <a:ext cx="520560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000000"/>
                </a:solidFill>
                <a:latin typeface="Arial"/>
              </a:rPr>
              <a:t>Linear Random intercept Model</a:t>
            </a:r>
            <a:br>
              <a:rPr sz="40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4BBF-B87B-47C7-A441-AF284A723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743200" y="2590920"/>
            <a:ext cx="3700440" cy="33051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6"/>
          <p:cNvSpPr/>
          <p:nvPr/>
        </p:nvSpPr>
        <p:spPr>
          <a:xfrm>
            <a:off x="2700360" y="205740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b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e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5257800" y="2057400"/>
            <a:ext cx="91440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9"/>
          <p:cNvSpPr/>
          <p:nvPr/>
        </p:nvSpPr>
        <p:spPr>
          <a:xfrm>
            <a:off x="3581280" y="2438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The random intercept model</a:t>
            </a:r>
            <a:br>
              <a:rPr sz="4400"/>
            </a:b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Graphical representation of a random intercep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EF29-7755-4DFE-8ABE-CB59DA43E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"/>
          <p:cNvPicPr/>
          <p:nvPr/>
        </p:nvPicPr>
        <p:blipFill>
          <a:blip r:embed="rId1"/>
          <a:srcRect l="0" t="1889" r="0" b="0"/>
          <a:stretch/>
        </p:blipFill>
        <p:spPr>
          <a:xfrm>
            <a:off x="903240" y="1650960"/>
            <a:ext cx="793584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A different situation…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Is the outcome changing over time at the same pace for all subjects, i.e. same sl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F61B-886A-4313-9063-88D485BBA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http://www.bristol.ac.uk/cmm/images/rs/2.gif"/>
          <p:cNvPicPr/>
          <p:nvPr/>
        </p:nvPicPr>
        <p:blipFill>
          <a:blip r:embed="rId1"/>
          <a:stretch/>
        </p:blipFill>
        <p:spPr>
          <a:xfrm>
            <a:off x="155520" y="2421000"/>
            <a:ext cx="4165560" cy="32176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http://www.bristol.ac.uk/cmm/images/rs/3.gif"/>
          <p:cNvPicPr/>
          <p:nvPr/>
        </p:nvPicPr>
        <p:blipFill>
          <a:blip r:embed="rId2"/>
          <a:stretch/>
        </p:blipFill>
        <p:spPr>
          <a:xfrm>
            <a:off x="4648320" y="2421000"/>
            <a:ext cx="426384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7DB7D-9A73-4BAE-9DF6-63C7B3666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http://www.bristol.ac.uk/cmm/images/rs/3.gif"/>
          <p:cNvPicPr/>
          <p:nvPr/>
        </p:nvPicPr>
        <p:blipFill>
          <a:blip r:embed="rId1"/>
          <a:stretch/>
        </p:blipFill>
        <p:spPr>
          <a:xfrm>
            <a:off x="3078000" y="228600"/>
            <a:ext cx="2524320" cy="1905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http://www.bristol.ac.uk/cmm/images/rs/5.gif"/>
          <p:cNvPicPr/>
          <p:nvPr/>
        </p:nvPicPr>
        <p:blipFill>
          <a:blip r:embed="rId2"/>
          <a:stretch/>
        </p:blipFill>
        <p:spPr>
          <a:xfrm>
            <a:off x="1747800" y="2635200"/>
            <a:ext cx="5186520" cy="39942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5"/>
          <p:cNvSpPr/>
          <p:nvPr/>
        </p:nvSpPr>
        <p:spPr>
          <a:xfrm>
            <a:off x="3352680" y="2286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r preferab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5791320" y="8380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9"/>
          <p:cNvSpPr/>
          <p:nvPr/>
        </p:nvSpPr>
        <p:spPr>
          <a:xfrm>
            <a:off x="7391520" y="4446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Linear Random intercept/random slope Model</a:t>
            </a:r>
            <a:br>
              <a:rPr sz="2800"/>
            </a:b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ongitudinal se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E86F-F115-4B3B-97D4-64F7B62E7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http://www.bristol.ac.uk/cmm/images/rs/7.gif"/>
          <p:cNvPicPr/>
          <p:nvPr/>
        </p:nvPicPr>
        <p:blipFill>
          <a:blip r:embed="rId1"/>
          <a:stretch/>
        </p:blipFill>
        <p:spPr>
          <a:xfrm>
            <a:off x="1574640" y="2133720"/>
            <a:ext cx="5359680" cy="41907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6"/>
          <p:cNvSpPr/>
          <p:nvPr/>
        </p:nvSpPr>
        <p:spPr>
          <a:xfrm>
            <a:off x="2700360" y="1523880"/>
            <a:ext cx="3700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i="1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 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*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me 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e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5040360" y="1523880"/>
            <a:ext cx="1219320" cy="4572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8"/>
          <p:cNvSpPr/>
          <p:nvPr/>
        </p:nvSpPr>
        <p:spPr>
          <a:xfrm>
            <a:off x="350532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9"/>
          <p:cNvSpPr/>
          <p:nvPr/>
        </p:nvSpPr>
        <p:spPr>
          <a:xfrm>
            <a:off x="7315200" y="3352680"/>
            <a:ext cx="2362320" cy="5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N (</a:t>
            </a:r>
            <a:r>
              <a:rPr b="0" i="1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IE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IE" sz="1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IE" sz="1800" spc="-1" strike="noStrike" baseline="-75000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0" lang="en-I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0"/>
          <p:cNvSpPr/>
          <p:nvPr/>
        </p:nvSpPr>
        <p:spPr>
          <a:xfrm>
            <a:off x="8534520" y="3429000"/>
            <a:ext cx="1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1"/>
          <p:cNvSpPr/>
          <p:nvPr/>
        </p:nvSpPr>
        <p:spPr>
          <a:xfrm flipV="1">
            <a:off x="2286000" y="4517640"/>
            <a:ext cx="2438280" cy="81612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20"/>
          <p:cNvSpPr/>
          <p:nvPr/>
        </p:nvSpPr>
        <p:spPr>
          <a:xfrm>
            <a:off x="4264200" y="4373640"/>
            <a:ext cx="0" cy="2887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Straight Arrow Connector 26"/>
          <p:cNvCxnSpPr/>
          <p:nvPr/>
        </p:nvCxnSpPr>
        <p:spPr>
          <a:xfrm flipV="1">
            <a:off x="4343040" y="1904400"/>
            <a:ext cx="1307160" cy="2515320"/>
          </a:xfrm>
          <a:prstGeom prst="straightConnector1">
            <a:avLst/>
          </a:prstGeom>
          <a:ln w="93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98" name="Straight Arrow Connector 129024"/>
          <p:cNvCxnSpPr/>
          <p:nvPr/>
        </p:nvCxnSpPr>
        <p:spPr>
          <a:xfrm>
            <a:off x="4756320" y="4517640"/>
            <a:ext cx="2732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9" name="Rectangle 129026"/>
          <p:cNvSpPr/>
          <p:nvPr/>
        </p:nvSpPr>
        <p:spPr>
          <a:xfrm>
            <a:off x="5025600" y="4334040"/>
            <a:ext cx="3405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lang="en-IE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080E-E26A-4ACC-8425-44BB48C1D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1219320" y="76320"/>
            <a:ext cx="678168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0EF1-3A3A-4498-94DE-79B2540B3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56720" y="380880"/>
            <a:ext cx="734076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Logistic Regression Example: </a:t>
            </a:r>
            <a:br>
              <a:rPr sz="3500"/>
            </a:b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ross-over tri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: 1-not depressed; 0- dep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ors: period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; treatment group 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observations per person (clus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 of interest: log odds ratio of depression: placebo vs.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228600" y="5334120"/>
            <a:ext cx="8610480" cy="113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7160" bIns="13716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Model:    log{odds(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ress)}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+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lace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51E2-0DA4-4375-899E-4B83CA47C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sults:  estimate (standard erro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523880" y="1295280"/>
          <a:ext cx="6172200" cy="42674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</a:tblGrid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d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dinary Logistic Reg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ount for correl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ce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o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.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ceb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(0.23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 Box 28"/>
          <p:cNvSpPr/>
          <p:nvPr/>
        </p:nvSpPr>
        <p:spPr>
          <a:xfrm>
            <a:off x="762120" y="5791320"/>
            <a:ext cx="746748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Estimat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WRO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andard Errors (&amp; Inferences) for OL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0"/>
          <p:cNvSpPr/>
          <p:nvPr/>
        </p:nvSpPr>
        <p:spPr>
          <a:xfrm>
            <a:off x="1828800" y="29638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3"/>
          <p:cNvSpPr/>
          <p:nvPr/>
        </p:nvSpPr>
        <p:spPr>
          <a:xfrm>
            <a:off x="2057400" y="297180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6"/>
          <p:cNvSpPr/>
          <p:nvPr/>
        </p:nvSpPr>
        <p:spPr>
          <a:xfrm>
            <a:off x="2057400" y="495288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7"/>
          <p:cNvSpPr/>
          <p:nvPr/>
        </p:nvSpPr>
        <p:spPr>
          <a:xfrm>
            <a:off x="2057400" y="3962520"/>
            <a:ext cx="1066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(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7AEC-6DE7-4B62-8AB6-3C3748AA2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27" descr="NonClustered"/>
          <p:cNvPicPr/>
          <p:nvPr/>
        </p:nvPicPr>
        <p:blipFill>
          <a:blip r:embed="rId1"/>
          <a:stretch/>
        </p:blipFill>
        <p:spPr>
          <a:xfrm>
            <a:off x="533520" y="395280"/>
            <a:ext cx="8153280" cy="585468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Non-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33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34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CC04-D6CF-481F-B8F4-48654CB2F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ological, psychological and social processes that influence health occur at many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v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ghbor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nalysis of risk factors should consi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Each of thes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Their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027" descr="davinci"/>
          <p:cNvPicPr/>
          <p:nvPr/>
        </p:nvPicPr>
        <p:blipFill>
          <a:blip r:embed="rId1"/>
          <a:stretch/>
        </p:blipFill>
        <p:spPr>
          <a:xfrm>
            <a:off x="3124080" y="2895480"/>
            <a:ext cx="381240" cy="381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28" descr="liver2"/>
          <p:cNvPicPr/>
          <p:nvPr/>
        </p:nvPicPr>
        <p:blipFill>
          <a:blip r:embed="rId2"/>
          <a:stretch/>
        </p:blipFill>
        <p:spPr>
          <a:xfrm>
            <a:off x="2819520" y="2416320"/>
            <a:ext cx="380880" cy="398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-level Models – Main Ide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30" descr="simpsons3"/>
          <p:cNvPicPr/>
          <p:nvPr/>
        </p:nvPicPr>
        <p:blipFill>
          <a:blip r:embed="rId3"/>
          <a:stretch/>
        </p:blipFill>
        <p:spPr>
          <a:xfrm>
            <a:off x="3505320" y="3352680"/>
            <a:ext cx="380880" cy="365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31" descr="us1"/>
          <p:cNvPicPr/>
          <p:nvPr/>
        </p:nvPicPr>
        <p:blipFill>
          <a:blip r:embed="rId4"/>
          <a:stretch/>
        </p:blipFill>
        <p:spPr>
          <a:xfrm>
            <a:off x="4800600" y="4648320"/>
            <a:ext cx="457200" cy="380880"/>
          </a:xfrm>
          <a:prstGeom prst="rect">
            <a:avLst/>
          </a:prstGeom>
          <a:ln w="0">
            <a:noFill/>
          </a:ln>
        </p:spPr>
      </p:pic>
      <p:cxnSp>
        <p:nvCxnSpPr>
          <p:cNvPr id="63" name="AutoShape 1032"/>
          <p:cNvCxnSpPr>
            <a:stCxn id="64" idx="1"/>
            <a:endCxn id="59" idx="1"/>
          </p:cNvCxnSpPr>
          <p:nvPr/>
        </p:nvCxnSpPr>
        <p:spPr>
          <a:xfrm flipH="1" flipV="1" rot="10800000">
            <a:off x="2621520" y="2266560"/>
            <a:ext cx="197640" cy="349920"/>
          </a:xfrm>
          <a:prstGeom prst="curvedConnector5">
            <a:avLst>
              <a:gd name="adj1" fmla="val -116058"/>
              <a:gd name="adj2" fmla="val 49948"/>
              <a:gd name="adj3" fmla="val -11605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5" name="Group 1033"/>
          <p:cNvGrpSpPr/>
          <p:nvPr/>
        </p:nvGrpSpPr>
        <p:grpSpPr>
          <a:xfrm>
            <a:off x="2438280" y="1981080"/>
            <a:ext cx="381240" cy="380880"/>
            <a:chOff x="2438280" y="1981080"/>
            <a:chExt cx="381240" cy="380880"/>
          </a:xfrm>
        </p:grpSpPr>
        <p:pic>
          <p:nvPicPr>
            <p:cNvPr id="66" name="Picture 1034" descr="cell"/>
            <p:cNvPicPr/>
            <p:nvPr/>
          </p:nvPicPr>
          <p:blipFill>
            <a:blip r:embed="rId5"/>
            <a:stretch/>
          </p:blipFill>
          <p:spPr>
            <a:xfrm>
              <a:off x="243828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1035" descr="cell"/>
            <p:cNvPicPr/>
            <p:nvPr/>
          </p:nvPicPr>
          <p:blipFill>
            <a:blip r:embed="rId6"/>
            <a:stretch/>
          </p:blipFill>
          <p:spPr>
            <a:xfrm>
              <a:off x="2622600" y="198108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1036" descr="cell"/>
            <p:cNvPicPr/>
            <p:nvPr/>
          </p:nvPicPr>
          <p:blipFill>
            <a:blip r:embed="rId7"/>
            <a:stretch/>
          </p:blipFill>
          <p:spPr>
            <a:xfrm>
              <a:off x="243828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1037" descr="cell"/>
            <p:cNvPicPr/>
            <p:nvPr/>
          </p:nvPicPr>
          <p:blipFill>
            <a:blip r:embed="rId8"/>
            <a:stretch/>
          </p:blipFill>
          <p:spPr>
            <a:xfrm>
              <a:off x="2622600" y="2171520"/>
              <a:ext cx="196920" cy="19044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70" name="AutoShape 1038"/>
          <p:cNvCxnSpPr>
            <a:endCxn id="58" idx="1"/>
          </p:cNvCxnSpPr>
          <p:nvPr/>
        </p:nvCxnSpPr>
        <p:spPr>
          <a:xfrm flipH="1" rot="16200000">
            <a:off x="2913840" y="2876040"/>
            <a:ext cx="267120" cy="15300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1039"/>
          <p:cNvCxnSpPr>
            <a:endCxn id="61" idx="1"/>
          </p:cNvCxnSpPr>
          <p:nvPr/>
        </p:nvCxnSpPr>
        <p:spPr>
          <a:xfrm flipH="1" rot="16200000">
            <a:off x="3260880" y="32914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040"/>
          <p:cNvCxnSpPr/>
          <p:nvPr/>
        </p:nvCxnSpPr>
        <p:spPr>
          <a:xfrm flipH="1" rot="16200000">
            <a:off x="3718080" y="3748680"/>
            <a:ext cx="25920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041"/>
          <p:cNvCxnSpPr/>
          <p:nvPr/>
        </p:nvCxnSpPr>
        <p:spPr>
          <a:xfrm flipH="1" rot="16200000">
            <a:off x="4098600" y="41295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1042"/>
          <p:cNvCxnSpPr/>
          <p:nvPr/>
        </p:nvCxnSpPr>
        <p:spPr>
          <a:xfrm flipH="1" rot="16200000">
            <a:off x="4555800" y="4586760"/>
            <a:ext cx="259560" cy="229320"/>
          </a:xfrm>
          <a:prstGeom prst="curved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75" name="Picture 1043" descr="neighborhood2"/>
          <p:cNvPicPr/>
          <p:nvPr/>
        </p:nvPicPr>
        <p:blipFill>
          <a:blip r:embed="rId9"/>
          <a:stretch/>
        </p:blipFill>
        <p:spPr>
          <a:xfrm>
            <a:off x="3962520" y="3733920"/>
            <a:ext cx="380880" cy="420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44" descr="city"/>
          <p:cNvPicPr/>
          <p:nvPr/>
        </p:nvPicPr>
        <p:blipFill>
          <a:blip r:embed="rId10"/>
          <a:stretch/>
        </p:blipFill>
        <p:spPr>
          <a:xfrm>
            <a:off x="4343400" y="4191120"/>
            <a:ext cx="457200" cy="38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045"/>
          <p:cNvSpPr/>
          <p:nvPr/>
        </p:nvSpPr>
        <p:spPr>
          <a:xfrm>
            <a:off x="6858000" y="236232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alth Out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46"/>
          <p:cNvSpPr/>
          <p:nvPr/>
        </p:nvSpPr>
        <p:spPr>
          <a:xfrm>
            <a:off x="6629400" y="2133720"/>
            <a:ext cx="1828800" cy="1523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047"/>
          <p:cNvSpPr/>
          <p:nvPr/>
        </p:nvSpPr>
        <p:spPr>
          <a:xfrm>
            <a:off x="2819520" y="2133720"/>
            <a:ext cx="3809880" cy="533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48"/>
          <p:cNvSpPr/>
          <p:nvPr/>
        </p:nvSpPr>
        <p:spPr>
          <a:xfrm>
            <a:off x="3200400" y="2666880"/>
            <a:ext cx="3429000" cy="1526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049"/>
          <p:cNvSpPr/>
          <p:nvPr/>
        </p:nvSpPr>
        <p:spPr>
          <a:xfrm flipV="1">
            <a:off x="3505320" y="2971440"/>
            <a:ext cx="3124080" cy="1522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50"/>
          <p:cNvSpPr/>
          <p:nvPr/>
        </p:nvSpPr>
        <p:spPr>
          <a:xfrm flipV="1">
            <a:off x="3886200" y="3123720"/>
            <a:ext cx="2743200" cy="38124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51"/>
          <p:cNvSpPr/>
          <p:nvPr/>
        </p:nvSpPr>
        <p:spPr>
          <a:xfrm flipV="1">
            <a:off x="4343400" y="3276360"/>
            <a:ext cx="2362320" cy="685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1052"/>
          <p:cNvSpPr/>
          <p:nvPr/>
        </p:nvSpPr>
        <p:spPr>
          <a:xfrm flipV="1">
            <a:off x="4800600" y="3429000"/>
            <a:ext cx="2057400" cy="914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053"/>
          <p:cNvSpPr/>
          <p:nvPr/>
        </p:nvSpPr>
        <p:spPr>
          <a:xfrm flipV="1">
            <a:off x="5257800" y="3505320"/>
            <a:ext cx="1752480" cy="13716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55"/>
          <p:cNvSpPr/>
          <p:nvPr/>
        </p:nvSpPr>
        <p:spPr>
          <a:xfrm flipV="1">
            <a:off x="5257800" y="3962520"/>
            <a:ext cx="457200" cy="8380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56"/>
          <p:cNvSpPr/>
          <p:nvPr/>
        </p:nvSpPr>
        <p:spPr>
          <a:xfrm flipV="1">
            <a:off x="4343400" y="3048120"/>
            <a:ext cx="533520" cy="9144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57"/>
          <p:cNvSpPr/>
          <p:nvPr/>
        </p:nvSpPr>
        <p:spPr>
          <a:xfrm flipV="1">
            <a:off x="4800600" y="2819160"/>
            <a:ext cx="914400" cy="152388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769A-32AF-4360-8F69-658B7BC25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6" descr="Clustered"/>
          <p:cNvPicPr/>
          <p:nvPr/>
        </p:nvPicPr>
        <p:blipFill>
          <a:blip r:embed="rId1"/>
          <a:stretch/>
        </p:blipFill>
        <p:spPr>
          <a:xfrm>
            <a:off x="533520" y="392040"/>
            <a:ext cx="8153280" cy="58564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852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mulated Data: Cluste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286000" y="563868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uster Number (Neighborho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 rot="16200000">
            <a:off x="-1293120" y="3191760"/>
            <a:ext cx="41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sion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31DF-F33C-4CB7-BEE3-A8E7CE265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in-Cluster Corre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lation of two observations from same cluster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685800" y="4952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Clustered = (9.8-9.8) / 9.8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ustered = (9.8-3.2) / 9.8 = 0.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10"/>
          <p:cNvGrpSpPr/>
          <p:nvPr/>
        </p:nvGrpSpPr>
        <p:grpSpPr>
          <a:xfrm>
            <a:off x="2514600" y="3429000"/>
            <a:ext cx="4876920" cy="1054080"/>
            <a:chOff x="2514600" y="3429000"/>
            <a:chExt cx="4876920" cy="1054080"/>
          </a:xfrm>
        </p:grpSpPr>
        <p:sp>
          <p:nvSpPr>
            <p:cNvPr id="229" name="Text Box 7"/>
            <p:cNvSpPr/>
            <p:nvPr/>
          </p:nvSpPr>
          <p:spPr>
            <a:xfrm>
              <a:off x="2514600" y="3429000"/>
              <a:ext cx="4876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 - Var Within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8"/>
            <p:cNvSpPr/>
            <p:nvPr/>
          </p:nvSpPr>
          <p:spPr>
            <a:xfrm>
              <a:off x="3733920" y="396252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t Va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9"/>
            <p:cNvSpPr/>
            <p:nvPr/>
          </p:nvSpPr>
          <p:spPr>
            <a:xfrm>
              <a:off x="2666880" y="4038480"/>
              <a:ext cx="434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11"/>
          <p:cNvSpPr/>
          <p:nvPr/>
        </p:nvSpPr>
        <p:spPr>
          <a:xfrm>
            <a:off x="1600200" y="3200400"/>
            <a:ext cx="61722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0E9B-5D29-4C83-8897-EE98113D7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ditional consideration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s in the multi-level models can be trick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interpretation of gender in a random effects model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(Y|gender,bi) = b0 + b1gender + b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 of b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persons with similar unobserved latent effect bi, the difference in average Y if those same people had been males instead of fem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e the counter-factual world….does it make sen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Centre for Multilevel Mode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University of Brist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ttp://www.bristol.ac.uk/cmm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B92E-C92B-4E2C-8A3D-273709EA2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AEA7-2C2D-4386-9593-4E276255B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n-independent responses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in-Cluster Correl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responses from the same family tend to be more like one another than two observations from different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: two observations from the same neighborhood tend to be more like one another than two observations from different neighbor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58A65-AD23-499F-8CAD-51A562500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39880" y="30430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iz”: Most Important Assumptions of Regression Analys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838080" y="205740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. Data follow normal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838080" y="3048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B. All the key covariates are included in the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38080" y="39625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. Xs are fixed and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800280" y="49528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D. Responses are in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Data Modelling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Linear Regression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True relationship is li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are normally distribu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Residuals have identical distribution (varianc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 u="sng">
                <a:solidFill>
                  <a:srgbClr val="000000"/>
                </a:solidFill>
                <a:uFillTx/>
                <a:latin typeface="Arial"/>
              </a:rPr>
              <a:t>Residuals are independent</a:t>
            </a: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3A7A-E721-48D0-AA44-738C0DB101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Specific Settings</a:t>
            </a:r>
            <a:br>
              <a:rPr sz="4400"/>
            </a:b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(clear violation of assumption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data, clustered stru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Repeated measurements (longitudinal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"/>
              </a:rPr>
              <a:t>Nested observ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ere is clear correlation among observational/experimental units in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This correlation needs to be accounted for during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Otherwise: biased inferences, wrong conclusion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4DFC-254E-4167-A5FA-0776B4C10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Beyond traditional Regression Models</a:t>
            </a:r>
            <a:br>
              <a:rPr sz="3200"/>
            </a:br>
            <a:r>
              <a:rPr b="0" lang="en-IE" sz="3200" spc="-1" strike="noStrike">
                <a:solidFill>
                  <a:srgbClr val="000000"/>
                </a:solidFill>
                <a:latin typeface="Arial"/>
              </a:rPr>
              <a:t>Multilevel Models (M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Statistical models as a formal framework of analysis with a complexity of structure </a:t>
            </a:r>
            <a:r>
              <a:rPr b="0" lang="en-IE" sz="2800" spc="-1" strike="noStrike" u="sng">
                <a:solidFill>
                  <a:srgbClr val="000000"/>
                </a:solidFill>
                <a:uFillTx/>
                <a:latin typeface="Arial"/>
              </a:rPr>
              <a:t>that matches the data</a:t>
            </a: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ata with a complex nested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dependent data: dependencies in the outcome over time, over space, ove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heterogeneity: standard regression models ‘averages’, Multilevel models additionally vari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"/>
              </a:rPr>
              <a:t>Modelling contextuality: micro and macro re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B3FB-1284-41CA-95FB-927115FE8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Arial"/>
              </a:rPr>
              <a:t>Multilevel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Arial"/>
              </a:rPr>
              <a:t>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effec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Hierarchical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Variance-components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Random-coefficient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Mixe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1AD0-3FDE-4B11-A2A6-B6150F27A5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Kathleen Bennett</dc:creator>
  <dc:description/>
  <dc:language>en-US</dc:language>
  <cp:lastModifiedBy>Administrator</cp:lastModifiedBy>
  <dcterms:modified xsi:type="dcterms:W3CDTF">2014-09-09T16:48:54Z</dcterms:modified>
  <cp:revision>470</cp:revision>
  <dc:subject/>
  <dc:title>PowerPoint Presentation</dc:title>
</cp:coreProperties>
</file>